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06B-48BB-4AAB-81A5-6704170F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519-AD45-4FA9-8D72-FA5BCAB9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A2C-589C-406A-8702-6FC3EE87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A06-B909-41D2-BB1A-FE3FDB75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A891-3453-4EC4-982F-24097AC0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8C26-05EE-4667-88D7-0594C7E5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5CFF-AC15-49C0-89C8-73392448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1F38-19EC-4CCA-9AFA-ADD06B3F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4309-0B49-4DB2-BAF3-33288EAC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A555-DBF5-4EDF-9C3A-B5E7A21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50FE-8632-4200-BFA4-83B1832E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CFC-DCBE-4F55-9784-180AEDD9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16F6-380A-493B-81A1-31900FBB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7113-49AD-4A0B-AF55-53CC64AD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FFF9-8BF5-4D74-8FE0-B06EE823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A606-2024-4615-B571-4311539C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D84B-1CCD-41BF-8124-47FFE98F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1A3-921F-493F-86D8-0424C7B5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BD3-4B6D-4767-B5E2-9BA0BCBC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4B2-0BF3-43E9-9E7A-1914155A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D7C-231A-4F88-90C4-A5FC97CF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54D-3403-44F6-97F7-4BC8A042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FD8-E1E8-4141-BBCC-22F88134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8BC-E0E9-4534-99BD-A6142951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3789-781E-4EF3-8F89-05E4A61CB9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CEAC-0829-4B52-9420-C6547C2CA6F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enre: a distinctive category of literary composi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iterature Genre: marked by distinctive style, form and content. One is just right for YOU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ster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ory revolves around a puzzle/probl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haracters deal with the solution to a puzzle/problem, such 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inding a missing item/pers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nraveling a secre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ationalize an event that is not explain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tains clues/hints that help the characters and readers solve the puzzle/probl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lkta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ry that teaches a less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ain the beliefs and customs of a region or count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riginal story is modified to make it more interesting or more humoro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sent larger-than-life characters and very unusual happen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ab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ype of folkta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nds in a moral or less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racters are animals that talk and act like huma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character usually represents a single human characteristic, such as a fox being symbolic of a tricks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ege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ries written about a real life hero and his/her mighty dee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x of fiction and historical facts that have been creatively altered to encourage moral conduct and right choi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aves questions/wonder in the reader’s minds (Did Mike Fink really wrestle a grizzly bear?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th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rtains to the actions of the gods and/or goddess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racters are super-natural beings with human emotions and qualit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lot may involve interplay between worlds (this world and previous/original world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assic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imelessness: enjoyed by readers from generation to gener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als with universal themes and experiences that relate to readers, such a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ve conquers al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ood vs. evi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ags to rich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municates ideas across cultur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forgettable charact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re You for Re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N-FICTION: real, factual, deals with actual people, places, and ev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CTION: unreal, not true, not factual, a made up sto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iograph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ry of a real person’s lif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nonfiction (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ios means lif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aphe means to wri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uthor must do research by interviewing the subject or those who knew the subje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alistic Fi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ccurately reflects life as it could be lived to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erything in the story could happen to real people living in our natural physical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 characters have normal human characterist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ory may be set in real places, but the story is NOT based on histo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utobiograph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nonfiction (tr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ory of a real person’s lif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to means 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ios means lif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aphe means to wri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ritten by the person the story is abou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thor does not need to do researc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uthor shares how he/she feels and what he/she thin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storical Fi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ased on historical ev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uthentic sett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racters portrayed in realistic mann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me characters may be actual people from history, but the story is fiction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rtistic mix of fiction and historical fa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cience Fi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ains some sort of scientific element, such 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uter spa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ithin the realm of possibil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aracters have some believable traits/qualit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18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19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195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217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221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antas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 of fiction (not tru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ains one or more of the following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pernatural occurren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haracters with magical pow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ngs with magical pow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nimals with human characterist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al people in fantastic pla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ntastic creatures or characters in real situa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gh Fantas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m of fiction (not real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od vs. evil (supernatural/evil force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ory written in a series of books/ volum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ing- of- age them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clude fantastical elements, such a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ves and dwarv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gi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izard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vented languag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ques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5:26:26Z</dcterms:created>
  <dc:creator>NEISD</dc:creator>
  <dc:description/>
  <dc:language>en-US</dc:language>
  <cp:lastModifiedBy>Evelyn Lugo Morales</cp:lastModifiedBy>
  <dcterms:modified xsi:type="dcterms:W3CDTF">2010-09-20T19:01:59Z</dcterms:modified>
  <cp:revision>5</cp:revision>
  <dc:subject/>
  <dc:title>Types of Genre</dc:title>
</cp:coreProperties>
</file>